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BDE-2271-4384-88F7-6F2684A2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11D-F188-4257-9B31-1977C8FD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A81-7AEB-46DE-9ED8-64CCBF99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AD2-5A37-4C21-B6BA-0E4E501E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99F7-00E4-48FF-8AAF-5FF9351D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9259-C2FF-4082-84EF-1A367B51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EB73-D9B3-47C9-AF38-C8CDD7C2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85D-8D6C-4749-890D-79F89970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142C-9A5A-419E-95C2-A6BA51EC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619D-94F3-4D21-83E9-8BA81347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0F65-BBB3-406A-9721-2D72F83C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C28-31EC-48E3-96B5-714AB57A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74A7-4154-4257-A474-D8B89005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BF01-A018-43BB-B081-BE2D35A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A37E-0E89-406F-A87F-B2801FE4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339-B2D7-41DC-808F-20971893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75A2-194F-49A5-AFBA-FB9AB6A4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119-0705-45FC-8EF5-FCC14A8D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54D-4422-42E5-A421-8036AF9E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176-A3A1-4245-A995-66B13D09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B85-799A-439D-AEDE-0AEE87B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FC4-5EEB-44E5-ACB3-2FD4D324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56C-8D5F-4010-84E1-B51BE3FE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A9E-9C9E-408B-90FE-698C019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501A-AB11-4FBD-9A20-F47A550DF9E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3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9F72-7239-4510-8176-6C653F319FF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 and the New Wor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Encounters, 1500 - 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French and the British in Ind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ghal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act of the Western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utch and the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r Robert C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 Indi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le of Plassey (17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ina &amp; Japa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695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g Dynasty (1369 – 16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ing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ern In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s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gun Tokugawa Ieyasu (1543 – 16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o th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rtugu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 visitors welco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holic Missio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u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meric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in and 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 In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and the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ugar Factor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estown (16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teen Colo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Impact of European Expansion: The Conquer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stating effects to local populations in America and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impact in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racial society in Lat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holic Miss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native 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, orphanages and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esuits in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s in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Impact of European Expansion: The Conqueror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ies fo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Si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of plants and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bia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European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colate, Coffee and 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ival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iews of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rdus Mercator (1512 – 1594) and his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ical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Global Patterns of the European States in the Eighteenth Century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6" name="Picture 4" descr="WCB3e_m14"/>
          <p:cNvPicPr/>
          <p:nvPr/>
        </p:nvPicPr>
        <p:blipFill>
          <a:blip r:embed="rId1"/>
          <a:stretch/>
        </p:blipFill>
        <p:spPr>
          <a:xfrm>
            <a:off x="-6667560" y="-4038480"/>
            <a:ext cx="22479120" cy="14934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WCB3e_m14"/>
          <p:cNvPicPr/>
          <p:nvPr/>
        </p:nvPicPr>
        <p:blipFill>
          <a:blip r:embed="rId2"/>
          <a:stretch/>
        </p:blipFill>
        <p:spPr>
          <a:xfrm>
            <a:off x="990720" y="1174680"/>
            <a:ext cx="78642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oward a World Econom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Conditions in the Sixteen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wth of Commercial Capit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stock trading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economic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nk of Ams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sterdam Bourse (Ex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rcanti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volume of trade unchang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ctivity = war through peaceful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of bullion and favorable balance of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terven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Overseas Trade and Colonies: Movement Toward Globaliza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oceanic trade very valu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 Europea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patterns interlocked Europe, Africa, the East and the Am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523880"/>
            <a:ext cx="7769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the Portuguese so well positioned for overseas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the Spanish able to defeat the Azte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cial and economic forces drove the Slave Tra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the British able to achieve such a dominant position in As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mpact did European colonization have on the colon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conomic changes occurred in Europe as a result of Mercantilism and Capit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the Brink of a New Worl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es and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vels of John Mandeville (14th centu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th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Mo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Z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Monarc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olemy’s Geography (14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b Li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av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Voyages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ge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South Asia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ound the Indus in 90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ast Asian History Source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 Indi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Jamest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Horizons: The Portuguese and Spanish Emp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 Henry the Navigator (1394 – 146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velopment of a Portuguese Maritim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tholomeu 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o da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es India by rounding Cape of Good 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r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onso d’Albuquerque (1462 – 15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– Military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Portugues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ma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Discoveries and Possessions in the Fifteenth and Sixteenth Centurie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4" name="Picture 5" descr="WCB3e_m14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oyages of the New Worl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676160"/>
            <a:ext cx="776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opher Columbus (1451 – 15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 the Bahamas (Oct. 12, 14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voyages (1493, 1498, and 15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Discov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Ca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Ca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go Vespu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˜ez de Balb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dinand Magel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dinand Magellan (1480 – 15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mnavigates th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f Tordesillas (14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Spanish Empire in the New World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Civilizations in Mesoame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zt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Conquest of the Aztec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nan Cortés (1485 – 15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tezuma (Montezu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tec Empire overth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Spanish Empire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Cont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a and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hak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a buildings and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sco Pizarro (c. 1475 – 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as overthrown (15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on of the Spanish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r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frica: The 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 Cane and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in the Slav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10,000,000 African slaves taken to the Americas between the Sixteenth and Nineteenth Cent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ath rate during tran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ers of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pulation of African king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effects of slave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ism of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of Friends = Qu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West in Southeast As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utch and the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Kingdoms (Burma, Siam, and Vietn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Local User</cp:lastModifiedBy>
  <dcterms:modified xsi:type="dcterms:W3CDTF">2011-10-18T13:24:55Z</dcterms:modified>
  <cp:revision>200</cp:revision>
  <dc:subject/>
  <dc:title>Chapter 14</dc:title>
</cp:coreProperties>
</file>